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D825-0080-4A7A-A5E9-4B24C3181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4512-B1A9-43AD-8402-32FB2721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EA4A28-A351-4E6B-855D-F342A63B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D0E5AD-B13C-4B67-BD56-623E2FDD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E15A99-317F-4094-915A-6CFB659D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9BB580-B7BD-45E6-9C7A-0DB2FBE6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596DA2-0447-42ED-9368-F7260BE9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FEC7D4-7194-403D-A328-C40F9A33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17AEB0-7D42-4CEB-B948-61C91A60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2D8BEF-CB66-4DF7-B76F-D25F6E6E4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EDC325-4975-4D83-9894-5892C63B3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0AAF27-1F90-4F67-AB62-6435CDA9A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1C9A-5FD7-42B7-AA55-61726EB70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8BEEBC-5D4C-434E-B78D-4BAD52E3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0BEF97-0C79-4BD6-B680-E4B91C1B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BEC3D8-6CA5-4FCD-AB7A-6A7555C0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07A5A9-957E-4366-A424-0B84A440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EBAAFE-25F5-4A9F-96B7-1AE2F60D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04FD54-77A4-4395-AEBE-F95A2FC3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9A05C-22E2-4CD5-9BC3-F4AB9E17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F1B0F9-0182-4347-8F1C-4388C89A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AC2032-0661-413A-919D-309FB78D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5E38F8-219C-4810-9436-B771284B4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AA7E-AEFF-48EC-9BC3-16C182BFA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8F87F8-DCE0-432E-8919-6459BD104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1F226-D7CC-45AA-A920-78BAA19AF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584F9-14A2-424C-9308-21931A2C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DE899-11A6-4343-8185-90C7EC32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B9D07-C34F-4F68-8D38-E9511917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E8B7D-EF0A-4ECD-BF93-A4FEC587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F5AA1-B9EA-45A7-BA96-5CFB1AED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ADB2D6-74FC-45CB-8599-0D07BFC5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8E00D-6EE1-4B48-844A-6C8A2A5A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BE794D-FD37-4345-823E-3EC4BAA0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206E-86AC-4159-8216-68059F885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5A1D5-59BB-4DC5-9C6F-CDAFBF8A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9630B-E7F9-4660-8D65-0EB86967C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B05AC-01BF-44F1-8A2A-089EF9359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ACA1D8-8800-4F6A-A57E-BCBBE8230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E9081E-68DD-4697-9B81-F6442454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7EB419-3707-41CD-8DB9-3BE49471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A1201C-9DEE-4125-8754-4A75B603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980FA9-0F5B-4A68-B40B-3174ED36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C30A5A-4774-42D1-89E5-AC0CD2F6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744A2A-90B7-4624-B2B7-6AB1217D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B65B-8094-439D-8B3B-ADA160B3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2806B6-56E4-4325-B662-7E495EBA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1CE240-0AB1-4C66-A0E6-09483722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FE0899-8603-4A5C-A8BC-4D1ACCB1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5BC995-9966-4C61-ADF6-A7E5A8743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2C2057-0624-46F9-B159-F2B7E1CE1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E7284C-BD92-4941-9692-95D859C0F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40F727-D91F-49D2-ACA9-4D4A4EEE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E7D6A7-0F05-46F4-B25D-775D9482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CF91B9-CF2A-49D2-99B2-3E847EDF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56892D-5ABB-4C5B-BE63-D7A3E765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C525-6C76-4EAB-8950-DB760F5B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97D3CE-C817-4705-9836-C9760DA3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140D83-A0B1-4B3C-9BE9-5E750A3F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912BFA-E930-4840-8F2D-55B89A12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C67DC1-5CE5-4A3F-A4F6-A76A4B1A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BC592A-6223-4675-A394-E39C82B9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B7822C-2413-4FE0-9C69-98A2B2C5D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0B47C0-048B-41FB-8137-C53162D59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B1F0FE-1A95-4AF7-BF00-0CEF7CB7B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906ED2-377A-4362-89B8-D7E3297F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037F62-396E-4577-8BEA-04AB9CDA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DAE3-0D3B-4EF5-A441-1EFEC85E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25ABAE-8256-4A69-8B93-C5DEB946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37B6CF-6461-4E10-9224-8B0398E0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3DDC77-0FFE-470F-A3AC-8F626EB5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F7A031-18A8-4E97-BC7E-6035E0F6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D16A0F-54D0-40AA-87E1-5A06DB0E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65AEC2-9A7A-43BB-8E98-970D9FF2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BB6A9D-7E91-4A63-9E14-0007B10A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1BD4F9-844C-4B85-86EE-523E7ACEB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FEC715-5800-42DC-B59C-40D30D3C4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BAF610-97F5-4008-BCFF-B7D9F9998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16958-16CB-4FD4-877E-1CDDEF39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761CB3-E444-4FD1-A96D-03DCBD70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A5A2DB-D310-4BC9-AE81-A5AEC4FA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D79A8B-47DC-41AC-AB81-48B0A4EA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0F46EF-A7BD-42DA-B472-B08EF082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5A916B-2C2C-4F9A-A5A6-35729C2D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090E1F-CB95-425E-AA4B-21BA5727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B721B6-E1E8-4F01-ADD9-F14C1077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A377C3-0ECF-4FB6-8DF6-256BEEFD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D4AADB-0354-43C6-A96B-F7737F48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FAAA5C-C692-4FC4-A233-C60EDD2DC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9F80-AB04-4DD8-913A-0F25FE93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26927D-8D31-469E-96B2-2C780E7AA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CF6F41-A268-4119-AE3D-C04080FCC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D106CE-9F54-493B-8547-DAABC741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EA2E95-B63A-4AD1-B081-B206BD92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80EA99-6598-466E-A254-611B2136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529CFF-7772-41D8-BDEF-66F3173E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CE2ADF-038B-40D1-90AA-5C30C45F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AC4EE9-38FC-4312-9823-AEB145AB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E6DF3A-7A5D-4DF5-9B2E-81F5CF54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292710-FB3B-49B5-B99B-FC401734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BDA1-0136-452A-82BB-4190CFCA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47955E-2DA2-490E-A931-10997770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C994E7-F2D2-4F64-B6B2-52E15D09B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EFC3A6-2B86-44CC-B18A-F4DC7D103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700729-DE48-430A-8049-269DE08DB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4622D5-6A6F-46A2-9AD2-68118679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2C97F5-6152-42CF-A2DC-9C80ED69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E7B4BD-0D7B-4CDB-8F88-1A0DC747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D1377B-13CC-4C2B-94C8-7C385F6F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FDEE2F-43F9-4465-A113-E54B160E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2F6603-DB11-4088-9F37-7B9CF010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7757-AC64-4706-8566-0D24B57B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AD6A7-2172-4994-9C4A-79926088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D4DF2E-D086-43CD-83A3-BDEDCC04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980AB7-B3E5-4825-9864-7D0D1333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504AD6-53EF-422F-87DB-9847AF3A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CA34F8-67FA-41E6-8FCA-59D04D6C1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A1051A-2CC5-43B1-B649-10F9AB921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D9A34F-B00F-4A46-BA9D-B283FDFB3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ABA6AC-A523-42DD-80EC-C7469E27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1D4BEE-293E-43CF-830A-60EE6604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013701-A958-476F-9C04-F9CE5161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ED1040-6B65-4EE5-9ABA-0B8C48B9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F129-CBD6-463E-BD21-DF13F53E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16C3C0-9AED-469A-A452-EC080AEE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DFBE8E-0912-4302-80C6-2B746470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7A8A0F-89FD-4040-AF7B-C6A5A25A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E339DD-5A31-41ED-A6B5-F32D13D6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F364E9-0B06-41C0-82AB-D5B94FC0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7F6D75-9D39-4BB3-8A2F-D49FEFEE1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E09AEA-6E6D-40D8-9B52-184FCB493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EAC04E-B276-440C-B780-F49854A06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83D66B-7E23-459E-B829-FE06A438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2141CE-6C00-47FD-9915-6BF1E700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D7FB-9A8B-49C6-AAD4-B9317ADD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F1FD24-874C-468B-A7D2-5CB3DA20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86834D-981E-42B1-B694-A6F5EB56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C1FD50-4626-4201-A444-892D00BE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77A4BB-6F99-4863-B64D-F538C984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98FC44-5F42-40A1-A258-DE0BDF6D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65B5ED-B374-4D3A-9C28-5CC2EE4F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8391A3-AFA1-4D06-BAB9-10239DF5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8934E3-A4DF-4DF2-90BF-9D119BD2A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058083-4D85-46B2-8E8D-3A472C1E0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BF7EF9-487E-477D-A2F3-772F75853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FF1E-15CD-4422-B315-BF65A7301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E28C6C-B507-4282-8F4B-93B07BBF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E2DCAC-795B-43AE-9F3C-E0F09A3E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FBFCBD-4366-42FA-845C-188AA1C2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062513-F0EA-4241-A9E5-BA0117BD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9B6C79-B7E5-4AE8-8F86-6DDA3CD4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AF5D16-570A-4074-B79C-7796D628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F4ED24-E7B8-4EF6-B062-103C21F1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D8CD4B-2F6F-4FB3-868A-ACF01E55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973807-4B45-4D49-B0E2-226310A6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D5049A-F37D-41EA-AAB4-2F883E864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B91F0-3D32-45B2-8FD8-B20F675A9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E67CD0-5CBC-43A3-8704-B44D5D369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5342F1-25EB-4908-90CF-4A4167864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F9385E-EB63-458B-BABE-5190AE96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2A46AC-D678-4FB0-8730-F7AB3B6E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D6FB19-B13A-49F1-8DDD-EA1501A8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A26BAF-F76A-455C-AC4F-B1665CD9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42E28F-E5F1-40B6-B801-47D431B1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F01D1B-11C4-4EF1-A6CD-FBE9C6A8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804D5A-AC30-4C5D-8433-FF68ED50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6B4572-30D0-4A93-B89B-48E53F06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59927-FDDE-4B2A-A3DF-C089FDB42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AD0923-E342-42FC-B40D-56EA6FAD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620F09-00FF-4CEA-A640-693B06FE3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BBCC6C-ED68-44F8-AFC6-9CE13DFB3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F5765-42F4-4DE9-A522-70CE1559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09113-C0F3-4269-B0EB-AF98F9C3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14878-8226-4037-9BF5-9C14D0E2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85E11-44A0-4748-B827-703A66F8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0590-42B7-43D8-8118-57E20F98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7B2E8-5D04-4A4F-AFCE-6E41A4A8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68D54-54A9-4B2A-9E1F-FDA5F77D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45C70-577A-4025-B11A-7A88E97E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434B6-4B55-4FBE-A320-E4A01517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CCC68-D5D1-4F0B-B20B-312AEFB1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F9D6C-3790-42FE-A805-DE4C23D63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ECB20-603E-46BD-93EF-4E43CF447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0DB0E-AC8D-4F4F-B059-801A03AF3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AD85F-4034-486C-914C-699B0B18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A3D82-724D-4D36-BEB6-FBF8375E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B453-2E01-4B96-8E9F-8E2B94D2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3E36F-354F-41D1-A756-8FD0C8C2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057D2-CFCB-496A-836A-53067B6B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D5A62-9223-45B3-8DC2-B9D5098C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E81B8-3581-4D8F-A382-972C2854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4856A-E6B8-4A15-8413-C7664DC8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B6493-8C8B-4279-A7E0-B16BDA87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FEA82-3D0A-4975-83EF-7989E4DA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557BB-AC69-43A9-B384-7289B9E40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5A1EA-50BC-4A20-896F-D42F93555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DF05B-347C-4092-A55B-793A271F9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9A53-2142-4FBC-A146-DC94B3DB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B33AE-2449-4C33-9059-A8CC7B96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6C43D-4DF0-4D1F-987F-2A619E80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D810D-87EC-43D2-BF5F-F112E1C5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FEFA7-C8CB-42F8-9DEC-FA994864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A6935-C899-4D44-94DE-EBC020F2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59B63-926A-48C7-BC8E-D39BF05A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0A124-1034-42DE-8280-1A342F7C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5E35E-792D-4CDA-8CD4-5BA82366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3BA77-5982-4417-85C3-BEA02AB3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40331-5C26-4A42-B5F2-0C8143A0C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856D-205A-4D4B-8FC2-41AECAFF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E0200-2562-4609-BD63-7E1FD62A3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9BF33-66A8-4BCD-AC4F-8157DE54B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BACEB-46E2-4C95-9E50-FD619E0C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4B2B7-94DE-4D5E-AD5C-FA2B8942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B1E67-E5B8-43FF-883A-2A613080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F3931-0E38-4A15-BF06-80241B64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46F89-AB78-435A-A6C1-4A3BD0C6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151EF-6B1B-4ED9-B9E0-213B5D46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7538E-AF3B-4108-9AB4-B6F034F5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787EA-B3B3-4805-BC93-FB3AA2D1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ECBB-2394-47E3-82AC-CCE8E651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A4A5E-888E-4B93-99F2-61E5D439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78324-38DA-423C-8B54-83EF3C358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6840D-FDEB-411D-93BD-6D9A53AE7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6D5E1-8EC7-4A90-A8F1-B783EDB16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2E279-921D-421B-B997-A41DB5B7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22514-76BA-40B3-8F46-99EDA503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FAFF8-8E87-4A71-9569-24F10552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26396-0518-4399-B955-E8B67F19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0FF4C-2E5C-45BB-8B45-88F036D2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B5C9B-2867-4071-8DA6-F3E03B5B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93BE-4C33-4DAA-BBA0-4FB8F620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DF17B-67FF-48AE-BF22-2B4E2017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2904E-63BF-4C6B-A1E0-06883ECE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45FBD-FD4F-4D89-9676-C9B9375A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05104-B77D-4A0D-813E-EDD0A3E70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B7F36-1146-4A73-A4EC-CA6A9B00D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3E033-E1D8-4735-BA84-30E8DEBA5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EEDFF-BFD0-4C86-9704-17B0B899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FBA3D-2CE3-437A-9232-044E6D89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9A0EC-8E89-4D61-97B2-D29AE852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E8FE3-0B08-45F9-ACA0-1BE36D38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D9B7-AC33-4338-85C4-A2D4A790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D669A-EF49-4018-B755-07AF706D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59880-8CCC-4890-896F-FD493350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EC18E-A2BB-4C83-BB3D-FCEE3F2A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CEA2E-D1E6-4685-B744-7ABFEEA9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40834-6181-478B-967B-AE099A35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12E65-2D1D-4435-8816-481156049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D3621-B023-4B8F-BBD7-6D00F220A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41DCB2-FA8C-4602-A182-20D22CA56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E636D0-2F45-41A2-A8A2-59053F3E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BF436-D5DB-49FC-AC89-072B578B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FB68-5D92-4112-9235-05F176BF3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6085-0A84-4FAC-9727-50B58991D8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70D4-07E7-43B9-9D93-2BC110D1B1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BF93-4FAE-4D61-8B02-A3A5C135F0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BBD8-F29B-4509-9772-8760458444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6655-0C9A-4984-94F4-B94D9DFC3C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4EAF-F014-49CD-93DC-CBDDD6DD41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D507-9F19-426B-B0CA-1BAD48903A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7596-E777-41CA-AC14-98FF3F0786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CE53-9439-46F9-BF4F-E3D449AA9C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FEAB-445E-4C5A-A6A3-5C675E1B3E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C359-EDA5-43A3-AEF8-1324564766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6D34-3D4A-464A-B0D1-C77DEED761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B151-767C-45FD-AEA1-8325FAB2A8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4B66-C498-4A6F-91AC-D6DB537171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23F9-8DB8-4C02-9BA9-5775196CCF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60E4-DA8E-45DD-A55E-916C42D399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42E8-805C-48EB-8EE9-41CF8092C9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DA66-2A94-4C3E-BB3F-C53E4A08C1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C203-E732-47C1-A729-57CAAEEA1F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05DC-537C-4541-98E9-C69EAFCC48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5BA3-9D4E-4F45-B0A5-4597E9FED6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4E14-18E7-49B3-B7EC-DE90034BE0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32B7-9DA9-403D-A4CF-D596E033F2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F49F-5C57-404C-9EE2-0E0B1B4619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923F-3FDF-40BF-A429-3FC6F8E594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62A4-E256-4714-8B55-FE3135AEE7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9D9C-E309-420F-B9CF-00EB4BE4F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FB41-5603-4159-BFAD-4F00A9DA09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6DB0-6F7B-4048-841A-6E5AC46064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3C80-0E3F-434D-A37C-7BB8F50B46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DA59-1F28-45F3-B94F-B1F3453A31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3FF6-6F1D-4940-A32D-E8A67C4197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A2F6-3696-4A7C-AD27-95DD65E561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E3147-45F6-4B0D-A429-EAA8114817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BFA6-F10B-4D96-8FC3-FF5A078600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CFFD-8AD8-4FA2-B6D8-7F0DE3E883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44EF-5637-4EA0-A7EE-7A6484B190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C620-45EF-4380-B45A-1CC4F14684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A81D-1652-4CEA-B437-00FA582F91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2" descr=""/>
          <p:cNvPicPr/>
          <p:nvPr/>
        </p:nvPicPr>
        <p:blipFill>
          <a:blip r:embed="rId1"/>
          <a:stretch/>
        </p:blipFill>
        <p:spPr>
          <a:xfrm>
            <a:off x="2500200" y="2214720"/>
            <a:ext cx="4114800" cy="5810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3" descr=""/>
          <p:cNvPicPr/>
          <p:nvPr/>
        </p:nvPicPr>
        <p:blipFill>
          <a:blip r:embed="rId2"/>
          <a:stretch/>
        </p:blipFill>
        <p:spPr>
          <a:xfrm>
            <a:off x="2643120" y="3214800"/>
            <a:ext cx="368640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Picture 1" descr=""/>
          <p:cNvPicPr/>
          <p:nvPr/>
        </p:nvPicPr>
        <p:blipFill>
          <a:blip r:embed="rId1"/>
          <a:stretch/>
        </p:blipFill>
        <p:spPr>
          <a:xfrm>
            <a:off x="595440" y="1119240"/>
            <a:ext cx="7953120" cy="523872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4" descr=""/>
          <p:cNvPicPr/>
          <p:nvPr/>
        </p:nvPicPr>
        <p:blipFill>
          <a:blip r:embed="rId2"/>
          <a:stretch/>
        </p:blipFill>
        <p:spPr>
          <a:xfrm>
            <a:off x="285840" y="2714760"/>
            <a:ext cx="8786880" cy="39996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4" descr=""/>
          <p:cNvPicPr/>
          <p:nvPr/>
        </p:nvPicPr>
        <p:blipFill>
          <a:blip r:embed="rId3"/>
          <a:stretch/>
        </p:blipFill>
        <p:spPr>
          <a:xfrm>
            <a:off x="285840" y="3111480"/>
            <a:ext cx="8786880" cy="39996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4" descr=""/>
          <p:cNvPicPr/>
          <p:nvPr/>
        </p:nvPicPr>
        <p:blipFill>
          <a:blip r:embed="rId4"/>
          <a:stretch/>
        </p:blipFill>
        <p:spPr>
          <a:xfrm>
            <a:off x="285840" y="3521160"/>
            <a:ext cx="8786880" cy="39996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4" descr=""/>
          <p:cNvPicPr/>
          <p:nvPr/>
        </p:nvPicPr>
        <p:blipFill>
          <a:blip r:embed="rId5"/>
          <a:stretch/>
        </p:blipFill>
        <p:spPr>
          <a:xfrm>
            <a:off x="285840" y="3886200"/>
            <a:ext cx="8786880" cy="39996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4" descr=""/>
          <p:cNvPicPr/>
          <p:nvPr/>
        </p:nvPicPr>
        <p:blipFill>
          <a:blip r:embed="rId6"/>
          <a:stretch/>
        </p:blipFill>
        <p:spPr>
          <a:xfrm>
            <a:off x="285840" y="4336920"/>
            <a:ext cx="8786880" cy="120204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4" descr=""/>
          <p:cNvPicPr/>
          <p:nvPr/>
        </p:nvPicPr>
        <p:blipFill>
          <a:blip r:embed="rId7"/>
          <a:stretch/>
        </p:blipFill>
        <p:spPr>
          <a:xfrm>
            <a:off x="285840" y="5599080"/>
            <a:ext cx="87868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395280" y="1671480"/>
            <a:ext cx="8353440" cy="35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Picture 1" descr=""/>
          <p:cNvPicPr/>
          <p:nvPr/>
        </p:nvPicPr>
        <p:blipFill>
          <a:blip r:embed="rId1"/>
          <a:stretch/>
        </p:blipFill>
        <p:spPr>
          <a:xfrm>
            <a:off x="561960" y="1109520"/>
            <a:ext cx="8020080" cy="52484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4" descr=""/>
          <p:cNvPicPr/>
          <p:nvPr/>
        </p:nvPicPr>
        <p:blipFill>
          <a:blip r:embed="rId2"/>
          <a:stretch/>
        </p:blipFill>
        <p:spPr>
          <a:xfrm>
            <a:off x="285840" y="1141560"/>
            <a:ext cx="8786880" cy="39816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4" descr=""/>
          <p:cNvPicPr/>
          <p:nvPr/>
        </p:nvPicPr>
        <p:blipFill>
          <a:blip r:embed="rId3"/>
          <a:stretch/>
        </p:blipFill>
        <p:spPr>
          <a:xfrm>
            <a:off x="285840" y="1631880"/>
            <a:ext cx="8786880" cy="24256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4" descr=""/>
          <p:cNvPicPr/>
          <p:nvPr/>
        </p:nvPicPr>
        <p:blipFill>
          <a:blip r:embed="rId4"/>
          <a:stretch/>
        </p:blipFill>
        <p:spPr>
          <a:xfrm>
            <a:off x="285840" y="4029120"/>
            <a:ext cx="8786880" cy="3999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" descr=""/>
          <p:cNvPicPr/>
          <p:nvPr/>
        </p:nvPicPr>
        <p:blipFill>
          <a:blip r:embed="rId5"/>
          <a:stretch/>
        </p:blipFill>
        <p:spPr>
          <a:xfrm>
            <a:off x="285840" y="451152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4" descr=""/>
          <p:cNvPicPr/>
          <p:nvPr/>
        </p:nvPicPr>
        <p:blipFill>
          <a:blip r:embed="rId6"/>
          <a:stretch/>
        </p:blipFill>
        <p:spPr>
          <a:xfrm>
            <a:off x="285840" y="5051520"/>
            <a:ext cx="8786880" cy="7286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4" descr=""/>
          <p:cNvPicPr/>
          <p:nvPr/>
        </p:nvPicPr>
        <p:blipFill>
          <a:blip r:embed="rId7"/>
          <a:stretch/>
        </p:blipFill>
        <p:spPr>
          <a:xfrm>
            <a:off x="285840" y="5846760"/>
            <a:ext cx="878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Picture 1" descr=""/>
          <p:cNvPicPr/>
          <p:nvPr/>
        </p:nvPicPr>
        <p:blipFill>
          <a:blip r:embed="rId1"/>
          <a:stretch/>
        </p:blipFill>
        <p:spPr>
          <a:xfrm>
            <a:off x="357120" y="714240"/>
            <a:ext cx="8467920" cy="522000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2" descr=""/>
          <p:cNvPicPr/>
          <p:nvPr/>
        </p:nvPicPr>
        <p:blipFill>
          <a:blip r:embed="rId2"/>
          <a:stretch/>
        </p:blipFill>
        <p:spPr>
          <a:xfrm>
            <a:off x="857160" y="6000840"/>
            <a:ext cx="4267440" cy="7999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"/>
          <p:cNvPicPr/>
          <p:nvPr/>
        </p:nvPicPr>
        <p:blipFill>
          <a:blip r:embed="rId3"/>
          <a:stretch/>
        </p:blipFill>
        <p:spPr>
          <a:xfrm>
            <a:off x="285840" y="6051600"/>
            <a:ext cx="878688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Picture 1" descr=""/>
          <p:cNvPicPr/>
          <p:nvPr/>
        </p:nvPicPr>
        <p:blipFill>
          <a:blip r:embed="rId1"/>
          <a:stretch/>
        </p:blipFill>
        <p:spPr>
          <a:xfrm>
            <a:off x="571680" y="1143000"/>
            <a:ext cx="8067600" cy="50673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4" descr=""/>
          <p:cNvPicPr/>
          <p:nvPr/>
        </p:nvPicPr>
        <p:blipFill>
          <a:blip r:embed="rId2"/>
          <a:stretch/>
        </p:blipFill>
        <p:spPr>
          <a:xfrm>
            <a:off x="285840" y="1163520"/>
            <a:ext cx="8786880" cy="4003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4" descr=""/>
          <p:cNvPicPr/>
          <p:nvPr/>
        </p:nvPicPr>
        <p:blipFill>
          <a:blip r:embed="rId3"/>
          <a:stretch/>
        </p:blipFill>
        <p:spPr>
          <a:xfrm>
            <a:off x="285840" y="1643040"/>
            <a:ext cx="8786880" cy="27925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4" descr=""/>
          <p:cNvPicPr/>
          <p:nvPr/>
        </p:nvPicPr>
        <p:blipFill>
          <a:blip r:embed="rId4"/>
          <a:stretch/>
        </p:blipFill>
        <p:spPr>
          <a:xfrm>
            <a:off x="285840" y="4429080"/>
            <a:ext cx="8786880" cy="3999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"/>
          <p:cNvPicPr/>
          <p:nvPr/>
        </p:nvPicPr>
        <p:blipFill>
          <a:blip r:embed="rId5"/>
          <a:stretch/>
        </p:blipFill>
        <p:spPr>
          <a:xfrm>
            <a:off x="285840" y="4917960"/>
            <a:ext cx="8786880" cy="4003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4" descr=""/>
          <p:cNvPicPr/>
          <p:nvPr/>
        </p:nvPicPr>
        <p:blipFill>
          <a:blip r:embed="rId6"/>
          <a:stretch/>
        </p:blipFill>
        <p:spPr>
          <a:xfrm>
            <a:off x="285840" y="5448240"/>
            <a:ext cx="878688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Picture 1" descr=""/>
          <p:cNvPicPr/>
          <p:nvPr/>
        </p:nvPicPr>
        <p:blipFill>
          <a:blip r:embed="rId1"/>
          <a:stretch/>
        </p:blipFill>
        <p:spPr>
          <a:xfrm>
            <a:off x="357120" y="890640"/>
            <a:ext cx="8458200" cy="15620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2" descr=""/>
          <p:cNvPicPr/>
          <p:nvPr/>
        </p:nvPicPr>
        <p:blipFill>
          <a:blip r:embed="rId2"/>
          <a:stretch/>
        </p:blipFill>
        <p:spPr>
          <a:xfrm>
            <a:off x="817560" y="2509920"/>
            <a:ext cx="8029440" cy="39909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4" descr=""/>
          <p:cNvPicPr/>
          <p:nvPr/>
        </p:nvPicPr>
        <p:blipFill>
          <a:blip r:embed="rId3"/>
          <a:stretch/>
        </p:blipFill>
        <p:spPr>
          <a:xfrm>
            <a:off x="5715000" y="5643720"/>
            <a:ext cx="857160" cy="39672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4" descr=""/>
          <p:cNvPicPr/>
          <p:nvPr/>
        </p:nvPicPr>
        <p:blipFill>
          <a:blip r:embed="rId4"/>
          <a:stretch/>
        </p:blipFill>
        <p:spPr>
          <a:xfrm>
            <a:off x="3897360" y="6040440"/>
            <a:ext cx="857160" cy="3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Picture 1" descr=""/>
          <p:cNvPicPr/>
          <p:nvPr/>
        </p:nvPicPr>
        <p:blipFill>
          <a:blip r:embed="rId1"/>
          <a:stretch/>
        </p:blipFill>
        <p:spPr>
          <a:xfrm>
            <a:off x="271440" y="1095480"/>
            <a:ext cx="8601120" cy="53337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4" descr=""/>
          <p:cNvPicPr/>
          <p:nvPr/>
        </p:nvPicPr>
        <p:blipFill>
          <a:blip r:embed="rId2"/>
          <a:stretch/>
        </p:blipFill>
        <p:spPr>
          <a:xfrm>
            <a:off x="4929120" y="1428840"/>
            <a:ext cx="857160" cy="3967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"/>
          <p:cNvPicPr/>
          <p:nvPr/>
        </p:nvPicPr>
        <p:blipFill>
          <a:blip r:embed="rId3"/>
          <a:stretch/>
        </p:blipFill>
        <p:spPr>
          <a:xfrm>
            <a:off x="857160" y="2685960"/>
            <a:ext cx="4929120" cy="3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Picture 1" descr=""/>
          <p:cNvPicPr/>
          <p:nvPr/>
        </p:nvPicPr>
        <p:blipFill>
          <a:blip r:embed="rId1"/>
          <a:stretch/>
        </p:blipFill>
        <p:spPr>
          <a:xfrm>
            <a:off x="681120" y="1790640"/>
            <a:ext cx="77817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1" descr=""/>
          <p:cNvPicPr/>
          <p:nvPr/>
        </p:nvPicPr>
        <p:blipFill>
          <a:blip r:embed="rId1"/>
          <a:stretch/>
        </p:blipFill>
        <p:spPr>
          <a:xfrm>
            <a:off x="490680" y="1133640"/>
            <a:ext cx="8162640" cy="51530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3" descr=""/>
          <p:cNvPicPr/>
          <p:nvPr/>
        </p:nvPicPr>
        <p:blipFill>
          <a:blip r:embed="rId2"/>
          <a:stretch/>
        </p:blipFill>
        <p:spPr>
          <a:xfrm>
            <a:off x="1643040" y="1143000"/>
            <a:ext cx="596268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4T07:28:48Z</dcterms:modified>
  <cp:revision>4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